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AE3-D635-4E88-9DE0-7AF2DD86FC6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EE20-24ED-452E-B3DB-FE1BBEA8165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571-E70F-4989-B8A4-F007294227F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E097-20D3-4548-A3C4-111DAF4D467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4C5E-7395-45A1-8B4E-1DCB3F5F1CC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9E4-05C0-4525-B527-2F985EA8857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471-9500-4194-961C-72FD5BCFD96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3A3-36B0-4B7D-BCAE-D933FA86EDF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685-8D80-49EE-BBEC-A3DD1D85B3A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411-A02B-4B43-B2B9-841CBD66867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06C-7EDE-4FA1-9C5A-DE3DF3566BE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326-6871-4533-A618-F6A6E652D81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D33-2A27-4F63-ADF5-D7E882DBC0A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474-0C5D-4C13-AD3C-7D14BDF6AFB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51F6-4ED0-404F-A7DC-BEFD4963C28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DD8-1E6D-4214-A8F5-D9112D8A8C4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0CB9-1943-4EC3-A566-A96BBB29E80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55A-2C53-42C8-A16F-C3946F64041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9AF-CD15-4FBF-99D5-B5F02661594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3C2-FB07-4818-B005-0ABCDA5A525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FD6-0BDF-4690-96C2-0CFFD1E4493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DF75-541E-42B3-BDF1-FB1DF8668F5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D0F8-C095-415A-A25B-060FC57EE87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8F1-701C-4A69-8290-30678848814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9253-C9A7-4E49-ACAF-051932D7988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90E5-A909-452A-8D4C-199E701B034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16A7-8F56-4D61-B0B9-CAA129D701C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FE2-AF71-4622-AB34-121D57E8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7EC-74F5-4682-9A09-FCB53C6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D2C-4187-41FA-A2B8-6D5FF64D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46E-07FC-4948-B497-B34DEE5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0DD-2683-4B28-A962-DFCC96CD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775-7345-4B71-83A2-CD8362A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F55-A03D-485F-AE67-8B80DB18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3C5-3D4E-43B3-A2DA-D5B508C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424-3D53-4A70-8DAE-CBC54C3F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E3C-CF87-4D23-9733-6D4E27C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011-138E-47BD-9D78-FC4902D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D26-6689-4A29-9B05-E4A644F6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F43B-5A3A-41FC-812C-B35C9B87C78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036-7020-4ADD-A2EC-9CC4C339AEC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РОНИЧНЕ ПЕРИАПИКАЛНЕ ЛЕЗ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8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2- 24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Етиологија и патогенеза периапикалних лезија, класифика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, клиничка слика и дијагноза, лечењ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55B-770F-4B7F-BFA5-EC04CAABD95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" y="1684440"/>
            <a:ext cx="8205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слика периапикалних лезија је често оскудна, сем у случајевима акутне егзарцебације и појаве дентогених инфе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присуство ових лезија треба посумњати увек када постоји некроза пулпе, осетљивост на вертикалну перкусију или палпаторна осетљивост у пределу апекса корена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аци од пацијента су веома оскудни. Углавном пацијент описује тегобе везане за пулпитичне болове зуба или стања акутне егзарцебације ( појаву болова и ото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0D03-BA7C-4A0D-BDB2-D8114C03D9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57200" y="144288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инспекција пружа податке или о постојању отока као последици акутне егзарцебације или о појави фистуле на кожи, што указује на присуство пери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ом инспекцијом зуба може се запазити постојање дубоких каријеса, као и дисколоритет зубне круне, што указује на постојање развијеног процеса одумирања ткива пул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Users\Zoran\Downloads\oralna hirurgija\slike\images788877.jpg"/>
          <p:cNvPicPr/>
          <p:nvPr/>
        </p:nvPicPr>
        <p:blipFill>
          <a:blip r:embed="rId1"/>
          <a:stretch/>
        </p:blipFill>
        <p:spPr>
          <a:xfrm>
            <a:off x="3405240" y="4292640"/>
            <a:ext cx="20732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936-4DAC-45C8-9A68-4280DF6FCC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57200" y="1697040"/>
            <a:ext cx="8205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јава тока и фистуле на слузокожи гребена, такође, указује на лезију у коштаном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стуле се, као последица периапикалних лезија, обично локализују интраорално на вестибуларној површини алвеоларног гребена. У случају латералних секутића и палатиналних коренова премолара и молара фистуле се могу наћи и са палатиналн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Zoran\Downloads\oralna hirurgija\slike\images556565.jpg"/>
          <p:cNvPicPr/>
          <p:nvPr/>
        </p:nvPicPr>
        <p:blipFill>
          <a:blip r:embed="rId1"/>
          <a:stretch/>
        </p:blipFill>
        <p:spPr>
          <a:xfrm>
            <a:off x="3186000" y="4102200"/>
            <a:ext cx="29307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91E0-63FD-4DE0-9CC1-2AE3DE3C6C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57200" y="1720800"/>
            <a:ext cx="8193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остојања периапикалних лезија обично нема елонгације кости, често постоји блага осетљивост у висини врхова корена зуба на палп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етљивост на вертикалну перкусију зуба је позитивна јер се притисак преноси дуж аксијалне осовине зуба на предео где се и иначе дешавају инфламаторни проце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ондирање и тест виталите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F9D-2A06-4E28-9339-E13A67E143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44600" y="1647720"/>
            <a:ext cx="851832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а диј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ове дијагностике, када се сумња на постојање периапикалне лезије, врши се са циљ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стике лезије (облик, величина, локализација,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ференцијалне дијагностике (цистични тумори вилица, системске коштане лез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ређивања индикација за опер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ћења постоперативног  тока и зара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65960"/>
            <a:ext cx="3809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CA6D-1D58-4C4E-B876-F24E89B3144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36680" y="1413000"/>
            <a:ext cx="815796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ра радиографска интерпретација је основ за правилно постављену дијагнозу и одређивање врсте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анализе радиографије посебно се обраћа пажњ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ламине 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периодонталн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ност архитектуре алвеоларне кости (склероза, деминерализ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каналног система (проширен, суж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роходности канала (интерна ресорпција или калциф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9A3-945C-4D1F-B48B-DAD94C42C3E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44600" y="166068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pg.jpg"/>
          <p:cNvPicPr/>
          <p:nvPr/>
        </p:nvPicPr>
        <p:blipFill>
          <a:blip r:embed="rId1"/>
          <a:stretch/>
        </p:blipFill>
        <p:spPr>
          <a:xfrm>
            <a:off x="163440" y="2568600"/>
            <a:ext cx="2357640" cy="302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Zoran\Downloads\oralna hirurgija\slike\images77.jpg"/>
          <p:cNvPicPr/>
          <p:nvPr/>
        </p:nvPicPr>
        <p:blipFill>
          <a:blip r:embed="rId2"/>
          <a:stretch/>
        </p:blipFill>
        <p:spPr>
          <a:xfrm>
            <a:off x="6626160" y="2481120"/>
            <a:ext cx="2282760" cy="306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Zoran\Downloads\oralna hirurgija\slike\download (28).jpg"/>
          <p:cNvPicPr/>
          <p:nvPr/>
        </p:nvPicPr>
        <p:blipFill>
          <a:blip r:embed="rId3"/>
          <a:stretch/>
        </p:blipFill>
        <p:spPr>
          <a:xfrm>
            <a:off x="3052800" y="3117960"/>
            <a:ext cx="334332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505-C859-4912-B6EB-1250C4F8787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44600" y="1697040"/>
            <a:ext cx="8218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ЕРИАПИКАЛНА  (РАДИКУЛАРНА) Ц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на радиограму као јасно ограничено расветљење у пределу врха корена зуба, округлог или овалног о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www.dental-centar-omega.hr/aploads/images/kirurgija/balen%201.jpg"/>
          <p:cNvPicPr/>
          <p:nvPr/>
        </p:nvPicPr>
        <p:blipFill>
          <a:blip r:embed="rId1"/>
          <a:stretch/>
        </p:blipFill>
        <p:spPr>
          <a:xfrm>
            <a:off x="2976480" y="37339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A0A-3703-4A39-BC28-B73C56EF2DD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432080"/>
            <a:ext cx="812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ФИБРОЗНИ ОЖИЉЦИ И ТУМОРИ КОШТА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арација фиброзним везивним ткивом након уклањања цисте или гранулома, може да буде погрешно дијагностикована као периапикална л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мори, одонтогени или неодонтогени могу такође да се јаве у апикалном пределу зуба, када радиографски могу да личе на периапикалне грануломе. У тим случајевима веома често је позитиван тест виталитет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F3B-A29D-45CF-A3C6-1692938FC6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457200" y="1671480"/>
            <a:ext cx="815832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додотска терапија од 85 до 95%, ендодонтско хируршка терапија од 5 до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 треба примењивати у случајевима када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 радиографски установи да није могуће ендодонтско ле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танови да предходно ендодонтско лечење није било успе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редходна дијагностика укаже на неодонтогено порекло 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3BD3-807C-4BE3-8DCC-F25F70E839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419120"/>
            <a:ext cx="8182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Периапикалне лезије  су патолошке промене које настају на врху коренова авиталних зуба, када некротични садржај канала корена, вршећи сталну иритацију апикалног предела, условљава појаву хроничне инфлам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некрозе пулпе могу да буду различити, мада се, као најважнији етиолошки фактор, најчешће описује каријес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траума, хемијска, термичка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HemiSekcija.avi" descr=""/>
          <p:cNvPicPr/>
          <p:nvPr/>
        </p:nvPicPr>
        <p:blipFill>
          <a:blip r:embed="rId1"/>
          <a:srcRect l="25767" t="3319" r="9865" b="7333"/>
          <a:stretch/>
        </p:blipFill>
        <p:spPr>
          <a:xfrm>
            <a:off x="3159000" y="3913200"/>
            <a:ext cx="27036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27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60C-EB4F-4ACC-8BA1-E8A0358B2B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20840" y="1708200"/>
            <a:ext cx="82296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, у основи, подразумева три могућ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кцију зуба и детаљну киретажу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екцију корена зуба и киретажу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мпутацију и уклањање дела или целог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802D-8970-4D3F-B139-C242D3EE7C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44600" y="1612800"/>
            <a:ext cx="8181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КЦ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све ређе примењује као терапијска опција. Разлози за овакав став су велика потреба за очувањем зуба ради израде фиксних протетских ра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актичном раду, екстракцију зуба треба радити само у случајевима када су периапикалне лезије проширене преко половине корена, а пародонтално оштећене у таквом стадијуму да се не може обезбедити стабилност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екстракцију зуба треба предузети и у случају сумње на фокални узрок обољења и када објективно постоји ризик за потпуни успех хируршког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7A9D-7BB0-4EFE-B403-AA3C09937B3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44600" y="1587600"/>
            <a:ext cx="86994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(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есекција корена зуб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 представља сигуран и у највећем броју случајева успешан поступак којим се уклања периапикална лезија и збрињава и оптурира канал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сно ограничене периапикалне лезије већих дим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емне апикалне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ијање корена у апикалном делу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usse rout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li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via fals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ломљени канални инструмент у апикалном делу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снуто канално пуњење у зону периапекса, нос или си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врха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а лечења периапикалних лезија на више зуба у једној сеа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треба за брзим успехом у лече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2E73-C6C0-48EB-8374-4D22F9F377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98360" y="1647720"/>
            <a:ext cx="8813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дицинске контраиндикације су релативне и обично након адекватне припреме пацијента, може се извршити хируршки поступ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е контраиндик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утна обољења дес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шке форме пародонтопатија са екстремним клаћењем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ша орална 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лаге и зубни камен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упак хируршког лечења  подразумева медикаментно-механичку обраду канала корена и његову оптурацију одговарајућим материј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629F-E1E1-4928-9BB8-BF1C82A0F3B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57200" y="164772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ЗБОР ВРСТЕ 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стибулар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лукруж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tcsh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Zoran\Downloads\oralna hirurgija\slike\images (1).jpg"/>
          <p:cNvPicPr/>
          <p:nvPr/>
        </p:nvPicPr>
        <p:blipFill>
          <a:blip r:embed="rId1"/>
          <a:stretch/>
        </p:blipFill>
        <p:spPr>
          <a:xfrm>
            <a:off x="158760" y="38448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Zoran\Downloads\oralna hirurgija\slike\download (29).jpg"/>
          <p:cNvPicPr/>
          <p:nvPr/>
        </p:nvPicPr>
        <p:blipFill>
          <a:blip r:embed="rId2"/>
          <a:srcRect l="7360" t="3623" r="14883" b="13025"/>
          <a:stretch/>
        </p:blipFill>
        <p:spPr>
          <a:xfrm>
            <a:off x="3176640" y="3549600"/>
            <a:ext cx="1949400" cy="243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Zoran\Downloads\oralna hirurgija\slike\captura-de-pantalla-2013-09-13-a-las-15-50-42.png"/>
          <p:cNvPicPr/>
          <p:nvPr/>
        </p:nvPicPr>
        <p:blipFill>
          <a:blip r:embed="rId3"/>
          <a:stretch/>
        </p:blipFill>
        <p:spPr>
          <a:xfrm>
            <a:off x="5332320" y="3943440"/>
            <a:ext cx="3527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6953-5F0D-4331-92BC-F742BFD4ECE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81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457200" y="1419120"/>
            <a:ext cx="81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пезаст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ovak-Peter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C:\Users\Zoran\Downloads\oralna hirurgija\slike\captura-de-pantalla-2013-09-13-a-las-15-00-29.png"/>
          <p:cNvPicPr/>
          <p:nvPr/>
        </p:nvPicPr>
        <p:blipFill>
          <a:blip r:embed="rId1"/>
          <a:srcRect l="0" t="1522" r="49206" b="0"/>
          <a:stretch/>
        </p:blipFill>
        <p:spPr>
          <a:xfrm>
            <a:off x="2770200" y="1876320"/>
            <a:ext cx="3106800" cy="4537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5137200" y="3705120"/>
            <a:ext cx="73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149800" y="4656240"/>
            <a:ext cx="7333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0AF-0573-4CA0-A50B-ECBB811458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0840" y="1684440"/>
            <a:ext cx="81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ао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S8001206"/>
          <p:cNvPicPr/>
          <p:nvPr/>
        </p:nvPicPr>
        <p:blipFill>
          <a:blip r:embed="rId1"/>
          <a:srcRect l="4716" t="11492" r="14790" b="64"/>
          <a:stretch/>
        </p:blipFill>
        <p:spPr>
          <a:xfrm>
            <a:off x="828720" y="2387520"/>
            <a:ext cx="4089240" cy="305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S8001336"/>
          <p:cNvPicPr/>
          <p:nvPr/>
        </p:nvPicPr>
        <p:blipFill>
          <a:blip r:embed="rId2"/>
          <a:srcRect l="24804" t="4012" r="22824" b="15758"/>
          <a:stretch/>
        </p:blipFill>
        <p:spPr>
          <a:xfrm>
            <a:off x="5246640" y="2286000"/>
            <a:ext cx="32050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A4D-845C-4D24-B679-ADA17CD7E24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4600" y="1684440"/>
            <a:ext cx="820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лкусни палатинални режањ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8001212"/>
          <p:cNvPicPr/>
          <p:nvPr/>
        </p:nvPicPr>
        <p:blipFill>
          <a:blip r:embed="rId1"/>
          <a:stretch/>
        </p:blipFill>
        <p:spPr>
          <a:xfrm>
            <a:off x="2357280" y="3063960"/>
            <a:ext cx="39610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F12-4AFF-435B-8723-3C57B0203D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17680" y="1612800"/>
            <a:ext cx="792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и палатинал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Mati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S8001331"/>
          <p:cNvPicPr/>
          <p:nvPr/>
        </p:nvPicPr>
        <p:blipFill>
          <a:blip r:embed="rId1"/>
          <a:stretch/>
        </p:blipFill>
        <p:spPr>
          <a:xfrm>
            <a:off x="2239920" y="2421000"/>
            <a:ext cx="482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1DD-4264-4F0C-90FA-1043BBEEF46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79360" y="1612800"/>
            <a:ext cx="83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уклањање патолошке лезије са врха корена зуба и потпуну оптурацију канала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е фазе р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S8001214"/>
          <p:cNvPicPr/>
          <p:nvPr/>
        </p:nvPicPr>
        <p:blipFill>
          <a:blip r:embed="rId1"/>
          <a:stretch/>
        </p:blipFill>
        <p:spPr>
          <a:xfrm>
            <a:off x="181080" y="31417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S8001215"/>
          <p:cNvPicPr/>
          <p:nvPr/>
        </p:nvPicPr>
        <p:blipFill>
          <a:blip r:embed="rId2"/>
          <a:stretch/>
        </p:blipFill>
        <p:spPr>
          <a:xfrm>
            <a:off x="4937040" y="31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779-BEED-48AC-9BEE-9F960DC6789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9800" y="173196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ламаторна реакција условљава активацију ћелијских и хуморалних медијатора, који утичу на даљу прогредијенцију деструкције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ћелијским медијаторима који учествују у механизмима развоја ових реакција, најважнији су макрофаги, плазмоцити, лимфоцити и мастоц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ћелијских елемената је одржавање ћелијских механизама одбране организма од штетних нокси, али и улога у синтези хуморалних медијатора запа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3FE7-9749-4AC1-9384-75D79B9472E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S8001216"/>
          <p:cNvPicPr/>
          <p:nvPr/>
        </p:nvPicPr>
        <p:blipFill>
          <a:blip r:embed="rId1"/>
          <a:stretch/>
        </p:blipFill>
        <p:spPr>
          <a:xfrm>
            <a:off x="252360" y="2262240"/>
            <a:ext cx="4356000" cy="3035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S8001219"/>
          <p:cNvPicPr/>
          <p:nvPr/>
        </p:nvPicPr>
        <p:blipFill>
          <a:blip r:embed="rId2"/>
          <a:stretch/>
        </p:blipFill>
        <p:spPr>
          <a:xfrm>
            <a:off x="4619520" y="2249640"/>
            <a:ext cx="435636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878F-988C-4DE1-9D77-E0F3288978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2" name="Picture 9" descr="S8001220"/>
          <p:cNvPicPr/>
          <p:nvPr/>
        </p:nvPicPr>
        <p:blipFill>
          <a:blip r:embed="rId1"/>
          <a:stretch/>
        </p:blipFill>
        <p:spPr>
          <a:xfrm>
            <a:off x="299880" y="2378160"/>
            <a:ext cx="3934080" cy="29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S8001221"/>
          <p:cNvPicPr/>
          <p:nvPr/>
        </p:nvPicPr>
        <p:blipFill>
          <a:blip r:embed="rId2"/>
          <a:stretch/>
        </p:blipFill>
        <p:spPr>
          <a:xfrm>
            <a:off x="488304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00F5-C3EF-4E5E-839B-A9372051418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8" name="Picture 11" descr="S8001222"/>
          <p:cNvPicPr/>
          <p:nvPr/>
        </p:nvPicPr>
        <p:blipFill>
          <a:blip r:embed="rId1"/>
          <a:stretch/>
        </p:blipFill>
        <p:spPr>
          <a:xfrm>
            <a:off x="336600" y="240336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C:\Users\Zoran\Downloads\oralna hirurgija\slike\images.jpg"/>
          <p:cNvPicPr/>
          <p:nvPr/>
        </p:nvPicPr>
        <p:blipFill>
          <a:blip r:embed="rId2"/>
          <a:srcRect l="14278" t="3298" r="16186" b="10192"/>
          <a:stretch/>
        </p:blipFill>
        <p:spPr>
          <a:xfrm>
            <a:off x="5846760" y="4138560"/>
            <a:ext cx="2084400" cy="216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C:\Users\Zoran\Downloads\oralna hirurgija\slike\imagesCA4BZV1B.jpg"/>
          <p:cNvPicPr/>
          <p:nvPr/>
        </p:nvPicPr>
        <p:blipFill>
          <a:blip r:embed="rId3"/>
          <a:srcRect l="52367" t="44628" r="1007" b="6465"/>
          <a:stretch/>
        </p:blipFill>
        <p:spPr>
          <a:xfrm>
            <a:off x="5715000" y="1395360"/>
            <a:ext cx="22194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6F3-F345-48C6-A718-552A95DDDA6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45" name="Picture 7" descr="cistektomija 43 i 12,11 sa intraop"/>
          <p:cNvPicPr/>
          <p:nvPr/>
        </p:nvPicPr>
        <p:blipFill>
          <a:blip r:embed="rId1"/>
          <a:stretch/>
        </p:blipFill>
        <p:spPr>
          <a:xfrm>
            <a:off x="2128680" y="3154320"/>
            <a:ext cx="4500720" cy="24670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8"/>
          <p:cNvSpPr/>
          <p:nvPr/>
        </p:nvSpPr>
        <p:spPr>
          <a:xfrm>
            <a:off x="480960" y="1636560"/>
            <a:ext cx="81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ртоградна оптурација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0A61-E115-4094-9120-553637CBEC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33440" y="139536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троградна опту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терисани канал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тпуно канално пуњење код зуба са протетским ра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тетски збринут зуб са кочићем без предходног лечења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S8001228"/>
          <p:cNvPicPr/>
          <p:nvPr/>
        </p:nvPicPr>
        <p:blipFill>
          <a:blip r:embed="rId1"/>
          <a:stretch/>
        </p:blipFill>
        <p:spPr>
          <a:xfrm>
            <a:off x="157320" y="323676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S8001229"/>
          <p:cNvPicPr/>
          <p:nvPr/>
        </p:nvPicPr>
        <p:blipFill>
          <a:blip r:embed="rId2"/>
          <a:stretch/>
        </p:blipFill>
        <p:spPr>
          <a:xfrm>
            <a:off x="4702320" y="3213000"/>
            <a:ext cx="42843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B39-F007-407E-A75F-5DAFFDD84C2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59" name="Picture 11" descr="S8001230"/>
          <p:cNvPicPr/>
          <p:nvPr/>
        </p:nvPicPr>
        <p:blipFill>
          <a:blip r:embed="rId1"/>
          <a:stretch/>
        </p:blipFill>
        <p:spPr>
          <a:xfrm>
            <a:off x="228600" y="2471760"/>
            <a:ext cx="4284720" cy="321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S8001231"/>
          <p:cNvPicPr/>
          <p:nvPr/>
        </p:nvPicPr>
        <p:blipFill>
          <a:blip r:embed="rId2"/>
          <a:stretch/>
        </p:blipFill>
        <p:spPr>
          <a:xfrm>
            <a:off x="4667400" y="2482920"/>
            <a:ext cx="421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424-21ED-44BD-AE88-F793F47A80C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S8001235"/>
          <p:cNvPicPr/>
          <p:nvPr/>
        </p:nvPicPr>
        <p:blipFill>
          <a:blip r:embed="rId1"/>
          <a:srcRect l="5333" t="-203" r="10721" b="8052"/>
          <a:stretch/>
        </p:blipFill>
        <p:spPr>
          <a:xfrm>
            <a:off x="181080" y="2325600"/>
            <a:ext cx="4356000" cy="326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8001234"/>
          <p:cNvPicPr/>
          <p:nvPr/>
        </p:nvPicPr>
        <p:blipFill>
          <a:blip r:embed="rId2"/>
          <a:srcRect l="23138" t="-206" r="22536" b="1521"/>
          <a:stretch/>
        </p:blipFill>
        <p:spPr>
          <a:xfrm>
            <a:off x="4606920" y="23256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5B7-B882-4EE7-A3F7-1258D9DA4E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ресекц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469800" y="1852560"/>
            <a:ext cx="8109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ператив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е суседних анатомских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сусед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не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20B-2537-49D4-95E2-CF71DA0565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208116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хуморалним медијаторима запаљења најважнији су медијатори коштане ресорпције: простангладини, фактори остеокластичне активације, комплемент, лизозоми и имуноглобулини продубљују реакцију у периапикалном ткиву и учествују у разградњи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ми настанка и раста периапикалних лезија су релативно сложени и одвијају се под непосредним учешћем имунопатолошких механизама чији процеси, у случају одлагања лечења, доводе до веће деструкције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767-C41D-43F9-AF06-B0E8C0B153E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28600" y="15638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шена је на основу хистолошке грађе, одређиване после хируршког уклањ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процеси се данас називају – хроничним периапикалним инфламатор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а класификација је углавном вршен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fib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dif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circumscr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download (26).jpg"/>
          <p:cNvPicPr/>
          <p:nvPr/>
        </p:nvPicPr>
        <p:blipFill>
          <a:blip r:embed="rId1"/>
          <a:stretch/>
        </p:blipFill>
        <p:spPr>
          <a:xfrm>
            <a:off x="5846760" y="3833640"/>
            <a:ext cx="329724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402B-66BF-40E0-B5F6-D0AF55CB854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57200" y="1768320"/>
            <a:ext cx="813276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Spatafore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19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улар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ожиљ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134-F2DB-49DB-A837-BDD1298806A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66840" y="1503360"/>
            <a:ext cx="840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ГРАНУЛ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јчешће се среће на врху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киво ових лезија саграђено је  од хронично инфламираног везивног ткива, при чему су поједине компоненте (запаљенски инфилтрат, гранулације, фиброплазија) изражене у различитом степ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ентралном делу гранулома налазе се гранулације и инфламаторни инфилтрат, а на периферији доминира фиброплазија која формира више или мање изражену везивно-ткивну капс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паљенски инфилтрат гранулома чине ћелије хроничног запаљења (плазмоцити, лимфоцити, макрофаги и гранулоци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840-36D6-45EC-ABF2-F383B33B511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33440" y="1757520"/>
            <a:ext cx="8217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ависности од доминације појединих компонената запаљења, грануломи су дефинисани као грануломатозни, фиброзни, ексудативни или епите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КУЛАРНА (ПЕРИАПИКАЛНА)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настаје даљом прогредијенцијом епителних гранулома. Настају лезије које имају лумен испуњен садржајем и омот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мотач радикуларних циста се састоји од  два слоја: спољашњег састављеног од везивног ткива и унутрашњег који је изграђен  од епи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045-A581-4337-97D0-9DEA3FD002D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69800" y="1684440"/>
            <a:ext cx="8120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ОЖИЉАК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се налази на врху корена хируршки лечених зуба и на радиографији имитирају присуство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столошки, изграђени су од фиброз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АЛЕ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друге патолошке творевине које нису дентогеног поре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ка развојна обољења (цементно-осеална дисплаз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ематолошка обољења (хронична лимфоцитна леукем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и тумори (фибром, остеобластом, одонтогени мик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игни метастатски тумори (карцином дојке, бубрега, остеосар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16Z</dcterms:modified>
  <cp:revision>1499</cp:revision>
  <dc:subject/>
  <dc:title>NAZIV PREDAVANJA</dc:title>
</cp:coreProperties>
</file>